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66E-4C4E-4246-B9C7-5F4FEA4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13E-3309-4ED1-922E-FB6998A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E37-4B76-4B88-9DB3-42FC180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34C-59C0-476E-BFC5-40C28960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454-01FE-4EDD-A70C-C242D9C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0E0-49EF-4656-8C8D-3076922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AD4-D9AF-4134-B92F-D803A85F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956-735D-4893-9EEA-03E94D0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A44-01A7-4877-B314-97560600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392-6902-4C18-A852-2616EF2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33C-B6C4-4DBA-BD80-63EF8BB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923-A112-4A77-84F6-5874D8E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807-77AB-4D8C-8D23-A6CC63CF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Me llamo ____________         Clase 701</a:t>
            </a:r>
            <a:br>
              <a:rPr sz="3800"/>
            </a:b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La fecha es el 12 de sept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¿Como seguimos el repaso del año pas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PRONOMBRE us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amigo y yo’: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urself’: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bo S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c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981080" y="1371600"/>
            <a:ext cx="7086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Verbs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on palabras de accion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Are action word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05120" y="2971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er” se usa para descripciones físicas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“Ser” is used for physical description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819520" y="3735360"/>
            <a:ext cx="6324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Conjug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ignifica cambiar el verbo para poder usarlo. Por ejempl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-Carlos SER fuerte    -Carlos </a:t>
            </a:r>
            <a:r>
              <a:rPr b="0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 fuer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means to change a verb in order to use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-Carlos TO BE strong. -Carlos </a:t>
            </a:r>
            <a:r>
              <a:rPr b="0" i="1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is</a:t>
            </a: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 stro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108320" y="5083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152960" y="508284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114800" y="632448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4114800" y="632412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609480" y="-125280"/>
            <a:ext cx="8261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Book Antiqua"/>
              </a:rPr>
              <a:t>Repaso de Gra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R (conjug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conjugar un verbo debemos SIEMPRE escribir los pronombres EN ORD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To conjugate a verb we must ALWAYS write the pronouns IN ORDE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90920" y="2730600"/>
            <a:ext cx="419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Y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T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É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Nosot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Vosot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429000" y="5867280"/>
            <a:ext cx="380880" cy="381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3429000" y="6248520"/>
            <a:ext cx="38088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3124080" y="388620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3124080" y="4267080"/>
            <a:ext cx="38124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43400" y="2730600"/>
            <a:ext cx="419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m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220400" y="480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*…y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eres alumno o alum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escuela?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mpleta con la forma correcta de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1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un amiga de Luisa. Luis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muy simpática. Y ell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3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graciosa. Luisa y 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4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colombianas.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5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de la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apital de Colombi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6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 Bogotá.  Nosotro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7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 alumnos en un colegio en Bogotá. Nosotro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8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 alumnas de ingles. La profesora de ingle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9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 la señorita Johnson.   Ell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10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 estadounid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be en ORACIONES 4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6600"/>
                </a:solidFill>
                <a:latin typeface="Arial"/>
              </a:rPr>
              <a:t>    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803160" y="3054240"/>
            <a:ext cx="21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941720" y="3054240"/>
            <a:ext cx="2133720" cy="231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23800" y="53452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aguéz, Puerto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5092200" y="53341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bla,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ubuida REPASO DEL VERBO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l supplies no later than MONDAY; preparation check wi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PACKET DUE NO LATER THAN FRIDAY, SEPTEMBER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dcterms:modified xsi:type="dcterms:W3CDTF">2014-09-12T14:08:42Z</dcterms:modified>
  <cp:revision>12</cp:revision>
  <dc:subject/>
  <dc:title>Me llamo _________         Clase 6NH/IL La fecha es el 16 de diciembre del 2010</dc:title>
</cp:coreProperties>
</file>